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93C3-E590-4839-B565-17E31EB61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D385-86F5-4199-8CF3-E8C7B430A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8AD-9AEC-4F74-BEA3-71FD4F49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89B-BF6D-497D-B5F7-8D5AC9A9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447-003D-4751-ACD7-ADCDED8A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2E5-1756-4EE5-AF25-78EA766D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D4A-BD3B-41CE-8E55-8802413A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30B-3AC2-4F43-9E7F-19BC3A5D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D24-0386-4D31-923F-859B5323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2BD-D373-4AA4-BD00-52259076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AB9-5D2D-47B8-8A75-0E97EB64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E7C-4583-4681-AE46-E0A74CC3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1FE-BD54-4DF7-9825-0A79C435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280-4729-4DE8-A48B-B78B6FD8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5994-AEC3-45CC-AC65-EE7805000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Jailene  Mo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Jailene Mor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Jailene Moreno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Jailene More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447920"/>
            <a:ext cx="6019920" cy="9144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828800"/>
            <a:ext cx="5029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05120" y="15238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6934320" y="1828800"/>
            <a:ext cx="76176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267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752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! Mi nombre es Jailene. Yo vivo en nueva york. Yo tengo catorce años. Yo tengo una hermana y un hermano. Yo soy alta y joven. Mi gusta leer y escrib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199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42670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Qué tal amiga mi familia te extraña. ¿Cuándo vienes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41148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Maish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Ellos están felices en la casa con mi hermano. Tu tienes hermanos? Adió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41911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ueno días. Mi familia está bien y ellos son calmad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43434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también los extraño mucho. Ustedes como están? Mi familia es intelig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4800600" cy="6098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Yo estoy trabajando en mi proyecto y estoy con mis hermanos tenemos que estudiar. ¿y tu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666880" y="6019920"/>
            <a:ext cx="48006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voy a desayunar porque quiero comer. Nosotros estamos bien y somos una familia loca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 5 sceonds ago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1981080" y="1828800"/>
            <a:ext cx="434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 ¿cómo está tu familia y cómo es tu famili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¿Qué estás haciend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dcterms:modified xsi:type="dcterms:W3CDTF">2013-01-02T14:57:21Z</dcterms:modified>
  <cp:revision>116</cp:revision>
  <dc:subject/>
  <dc:title>Profile</dc:title>
</cp:coreProperties>
</file>